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A85-EC8E-4628-B142-0B1D7B2D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2B4-1A9A-48DE-B56C-B67910E2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ED3-1B14-441C-8CD8-3BE9879C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0FB-03C5-4EE9-8CDE-B2E9D092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E19A-A4C9-40B3-8EAB-8F657367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ED9B-96EA-4D6C-8C2B-09F86CA0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531A-6BD1-472A-977A-D2D2E1E1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E586-63E2-4965-A01F-87204B41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D41D-619B-4054-8F91-C04A2CB3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5FB6-1CAD-461C-9BD2-E0A26563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0FD2-4EB1-4C61-B275-3D67E858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071-D6C1-47A2-B996-51487FD3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6CBD-657F-410A-929E-8044926D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A18A-B085-4394-B547-6C1AA93F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8235-459F-457C-B827-6C739B38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6594-338D-4ACE-BE08-1B23541F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AC4E-B739-4F9B-81A7-ABD73769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0C3D-ED0A-4BB3-A881-45204657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801B-8044-400E-B31E-9B81828D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9232-9F38-475F-A894-3CBD0C84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5C25-E9A3-4327-AA60-52B193DD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034D-89BE-4B3F-B11B-75168D97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F0B-47DC-49E3-8190-178E851A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AB23-248D-4C36-B1EC-1F18BD9B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F3BEA-48EA-4FDB-B275-D7F329CB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C52D-00A9-4C6B-BA45-E1416A8E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32F4B-31A4-487A-878C-8FB39574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BDB3-574C-4FFB-8677-314F073C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A754C-DFEA-4C02-82F8-D4B3E4BD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EEE40-3E42-42DD-9F08-AAA7BC5F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DE652-6A10-4531-B3C8-EA3E610C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B131-92AC-40DE-8789-1F1307C2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B8D8-0213-40AC-BD7B-FD4B778E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BD2-3C8A-412E-9F57-123E394F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ADEDD-E4B5-4F48-B776-1D4618BC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F1C3-841D-4C49-8C6D-D13D43AE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3233C-0F38-4B3F-9FB5-33C4C385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01C9A-6C81-41A1-BA8E-33A4C1A2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80A82-03F4-43E3-BE54-18C09377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06B73-F05D-4465-90AD-7DF704FA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9777-631B-4780-B51F-EECDDF38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CCFDC-8D8F-435B-BA74-67B69BE6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A73C-2418-4A91-B3F9-4638FDD8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FD0-B82F-4C9D-ACFA-AB8DA117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6C2-DB57-4A20-9D1C-19D09089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AD6-358B-48E0-BCDD-94A6930E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B81-1869-4350-9647-0C6CFAB9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3DF-5A1F-487E-8383-F9BACE8C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8655-A7C2-40D4-9303-ACE831CF9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5A86-5666-4BAF-B250-0EA1F2075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0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d2d89"/>
                </a:gs>
                <a:gs pos="100000">
                  <a:srgbClr val="0000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5D2-42B4-4274-B32C-0681F74025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00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d2d89"/>
                </a:gs>
                <a:gs pos="100000">
                  <a:srgbClr val="0000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13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8177-561F-450B-BBF3-25501D1677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The Plant Cell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Allison Tiet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-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2639" t="13748" r="8986" b="13748"/>
          <a:stretch/>
        </p:blipFill>
        <p:spPr>
          <a:xfrm>
            <a:off x="0" y="1447920"/>
            <a:ext cx="91440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itochondri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R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0" t="17868" r="45965" b="16627"/>
          <a:stretch/>
        </p:blipFill>
        <p:spPr>
          <a:xfrm>
            <a:off x="990720" y="1295280"/>
            <a:ext cx="70866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05:07Z</dcterms:created>
  <dc:creator>atietz</dc:creator>
  <dc:description/>
  <dc:language>en-US</dc:language>
  <cp:lastModifiedBy>atietz</cp:lastModifiedBy>
  <dcterms:modified xsi:type="dcterms:W3CDTF">2010-12-17T19:32:08Z</dcterms:modified>
  <cp:revision>2</cp:revision>
  <dc:subject/>
  <dc:title>The Plant Cell</dc:title>
</cp:coreProperties>
</file>